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A4B-760E-49E7-81AA-51F70FED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DEF-A734-41B0-A6F7-B244ACA2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97F7-2DF7-49FE-890C-DADC670A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113-77B6-4C79-BA4F-A3B8D547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BB9F-24C2-4486-9A2F-CDF19409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210C-2E05-4482-B75C-202BEB80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608A-EEB6-4301-9C5E-F3EEC08E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0FF9-D583-406C-BFDF-5ABE62DC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1984-94D4-46F2-B8AE-2664AE54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D653-8DAD-412F-B425-37CB2DD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BCDB-F639-4C8B-A8D5-1E296209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D87-1500-4341-A16A-C8EEF553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637B-096F-4642-A9B0-FD94439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85E5-671D-4DDF-86D3-2E9B88E6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1C40-C6DA-4DE0-B1BF-B1159361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226C-67EF-4E21-A1B6-CD5353B0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78A0-A9EC-43F6-ACBB-511EECCA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C8C2-1163-40BB-83EF-3C12A83D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F23F-F30C-4EC0-B282-DCD43884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1487-B41A-43D0-BE4D-6311A731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B861-450E-4207-B94F-1ABAA36A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2664F-68F6-41B8-8BFE-C2BC3D7F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B41A-1AB4-4675-9B1B-D96E6FB2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3EBB0-6DD9-49D5-A626-DD27A6F2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1F550-5FD7-4F22-8C86-FC7ACD63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34EE-4AEC-4643-AAE9-C2F06C2E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B22EC-54FC-4792-8FAE-EE5C2883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15EA7-02AC-4D80-838B-F6AE2CF3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2AAE4-1356-45E7-8C8F-7C78BA7F8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86EEC-EA19-422C-95D2-83494F56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7FC-3765-414A-B30E-3F309FDD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723-BA43-4EA2-A3AA-D8542590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922-0CD9-440C-82B2-A093C726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F1D-049F-42D9-9227-B1910A3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EA0-74C9-4653-8DCE-7EDB890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E10-DE71-45B4-9333-FD4CE19D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2C3F-73FD-4B2C-9FB6-37F71C288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262C-03E0-431C-B18F-CA9AB447F8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80" name="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81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83" name="未知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未知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未知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未知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未知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未知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FC10-52C3-4551-B34C-9B0CB9C51E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6160" y="4318200"/>
            <a:ext cx="980640" cy="1159920"/>
            <a:chOff x="7796160" y="4318200"/>
            <a:chExt cx="980640" cy="1159920"/>
          </a:xfrm>
        </p:grpSpPr>
        <p:sp>
          <p:nvSpPr>
            <p:cNvPr id="144" name="未知"/>
            <p:cNvSpPr/>
            <p:nvPr/>
          </p:nvSpPr>
          <p:spPr>
            <a:xfrm rot="7320000">
              <a:off x="7791480" y="465912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 rot="7320000">
              <a:off x="776772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未知"/>
            <p:cNvSpPr/>
            <p:nvPr/>
          </p:nvSpPr>
          <p:spPr>
            <a:xfrm rot="7320000">
              <a:off x="7934400" y="462168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6160" y="4318200"/>
              <a:ext cx="980640" cy="1159920"/>
              <a:chOff x="7796160" y="4318200"/>
              <a:chExt cx="980640" cy="1159920"/>
            </a:xfrm>
          </p:grpSpPr>
          <p:sp>
            <p:nvSpPr>
              <p:cNvPr id="148" name="未知"/>
              <p:cNvSpPr/>
              <p:nvPr/>
            </p:nvSpPr>
            <p:spPr>
              <a:xfrm rot="7320000">
                <a:off x="7916400" y="506232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 rot="7320000">
                <a:off x="7756920" y="4650840"/>
                <a:ext cx="1058760" cy="4946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7320000">
                <a:off x="8036280" y="4757760"/>
                <a:ext cx="74916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7320000">
                <a:off x="8514000" y="455976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 rot="7320000">
                <a:off x="8152920" y="475956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71640" y="1989000"/>
            <a:ext cx="6769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第</a:t>
            </a:r>
            <a:r>
              <a:rPr b="1" lang="en-US" sz="2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8</a:t>
            </a:r>
            <a:r>
              <a:rPr b="1" lang="zh-CN" sz="2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课</a:t>
            </a:r>
            <a:endParaRPr b="1" lang="en-US" sz="2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中华文化的勃兴（一）</a:t>
            </a:r>
            <a:endParaRPr b="1" lang="en-US" sz="2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文字的演变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" y="1523880"/>
          <a:ext cx="7696080" cy="4041720"/>
        </p:xfrm>
        <a:graphic>
          <a:graphicData uri="http://schemas.openxmlformats.org/drawingml/2006/table">
            <a:tbl>
              <a:tblPr/>
              <a:tblGrid>
                <a:gridCol w="2514600"/>
                <a:gridCol w="518148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朝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（或时期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成        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商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商周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战国时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54936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二、天文、历法和医学成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2280" y="1371600"/>
            <a:ext cx="33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天文成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2286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古书记载的最早日食记录发生在夏朝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43000" y="32004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记载的日、月食经证实都很可靠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4343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确切日期的日食记录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2096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夏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3200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商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343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周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日食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133720"/>
            <a:ext cx="4343400" cy="3927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25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724280" y="2133720"/>
            <a:ext cx="4419720" cy="39621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255" name=""/>
          <p:cNvSpPr txBox="1"/>
          <p:nvPr/>
        </p:nvSpPr>
        <p:spPr>
          <a:xfrm>
            <a:off x="1116000" y="1197000"/>
            <a:ext cx="1981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日食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64000" y="1125360"/>
            <a:ext cx="2895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03d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隶书"/>
              </a:rPr>
              <a:t>日全食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703d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8308800" y="6504120"/>
            <a:ext cx="83520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066680" y="0"/>
            <a:ext cx="680256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-925200" y="2209680"/>
            <a:ext cx="3106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Times New Roman"/>
                <a:ea typeface="隶书"/>
              </a:rPr>
              <a:t>月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066680" y="76320"/>
            <a:ext cx="7162920" cy="6708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  </a:t>
            </a:r>
            <a:r>
              <a:rPr b="0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月 全 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268360" y="0"/>
            <a:ext cx="4391280" cy="129528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日食形成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58920" y="1197000"/>
            <a:ext cx="8785080" cy="48243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124000" y="0"/>
            <a:ext cx="4824360" cy="1295280"/>
          </a:xfrm>
          <a:prstGeom prst="horizontalScroll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月食形成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8569080" cy="48243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0"/>
            <a:ext cx="6095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Times New Roman"/>
                <a:ea typeface="隶书"/>
              </a:rPr>
              <a:t>  </a:t>
            </a: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隶书"/>
              </a:rPr>
              <a:t>哈雷慧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天文成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572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286000"/>
                <a:gridCol w="5410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朝代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成       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夏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商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周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0" y="54936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天文、历法和医学成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2280" y="1752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历法成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27432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⑴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夏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商朝：一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月历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4267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 战国：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节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029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医学成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95288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666880" y="1752480"/>
            <a:ext cx="762120" cy="533520"/>
          </a:xfrm>
          <a:custGeom>
            <a:avLst/>
            <a:gdLst>
              <a:gd name="textAreaLeft" fmla="*/ 33120 w 762120"/>
              <a:gd name="textAreaRight" fmla="*/ 729000 w 76212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99" y="1350"/>
                </a:lnTo>
                <a:lnTo>
                  <a:pt x="1350" y="135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99" y="20250"/>
                </a:lnTo>
                <a:lnTo>
                  <a:pt x="29499" y="135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499" y="2025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849" h="21600">
                <a:moveTo>
                  <a:pt x="8381" y="3756"/>
                </a:moveTo>
                <a:lnTo>
                  <a:pt x="22468" y="10800"/>
                </a:lnTo>
                <a:lnTo>
                  <a:pt x="8381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5181480"/>
            <a:ext cx="685800" cy="457200"/>
          </a:xfrm>
          <a:custGeom>
            <a:avLst/>
            <a:gdLst>
              <a:gd name="textAreaLeft" fmla="*/ 28440 w 685800"/>
              <a:gd name="textAreaRight" fmla="*/ 657360 w 68580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1042" y="1350"/>
                </a:lnTo>
                <a:lnTo>
                  <a:pt x="1350" y="135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1042" y="20250"/>
                </a:lnTo>
                <a:lnTo>
                  <a:pt x="31042" y="135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42" y="2025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92" h="21600">
                <a:moveTo>
                  <a:pt x="9152" y="3756"/>
                </a:moveTo>
                <a:lnTo>
                  <a:pt x="23240" y="10800"/>
                </a:lnTo>
                <a:lnTo>
                  <a:pt x="9152" y="1784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700360" y="56386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商朝人刻在龟甲和兽骨上的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5562720"/>
            <a:ext cx="2016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甲骨文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3900600" cy="4525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95280" y="1066680"/>
            <a:ext cx="3719520" cy="44514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28600" y="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、文字的演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86200" y="289548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3200400"/>
            <a:ext cx="23623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304812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485480" y="3200400"/>
            <a:ext cx="66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十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86200" y="3657600"/>
            <a:ext cx="68580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276720" y="4114800"/>
            <a:ext cx="7617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4648320"/>
            <a:ext cx="137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73760" y="4724280"/>
            <a:ext cx="115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霜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533520" y="1020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节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685800"/>
            <a:ext cx="5790960" cy="2128320"/>
          </a:xfrm>
          <a:prstGeom prst="rect">
            <a:avLst/>
          </a:prstGeom>
          <a:solidFill>
            <a:srgbClr val="ffffff">
              <a:alpha val="78000"/>
            </a:srgbClr>
          </a:solidFill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立春、雨水、惊蛰、春分、清明、谷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立夏、小满、芒种、夏至、小暑、大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立秋、处暑、白露、秋分、寒露、霜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立冬、小雪、大雪、冬至、小寒、大寒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038480" y="3657600"/>
            <a:ext cx="9907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4267080"/>
            <a:ext cx="8610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指导农民合理安排农业生产活动，有利于推动农业生产的发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2971800"/>
            <a:ext cx="7315200" cy="581400"/>
          </a:xfrm>
          <a:prstGeom prst="rect">
            <a:avLst/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指导农事谚语：“谷雨前后，种瓜种豆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311640" cy="2336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5327640" y="620640"/>
            <a:ext cx="38163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气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雨惊春清谷天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满芒夏暑相连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处露秋寒霜降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冬雪雪冬小大寒。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900000" y="1844640"/>
            <a:ext cx="3384720" cy="22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340000" y="3645000"/>
            <a:ext cx="3311640" cy="2336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4140360" y="4495680"/>
            <a:ext cx="3346200" cy="2362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8308800" y="6504120"/>
            <a:ext cx="835200" cy="353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8229600" y="5715000"/>
            <a:ext cx="533520" cy="457200"/>
          </a:xfrm>
          <a:custGeom>
            <a:avLst/>
            <a:gdLst>
              <a:gd name="textAreaLeft" fmla="*/ 28440 w 533520"/>
              <a:gd name="textAreaRight" fmla="*/ 505080 w 53352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53" y="1350"/>
                </a:lnTo>
                <a:lnTo>
                  <a:pt x="1350" y="135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53" y="20250"/>
                </a:lnTo>
                <a:lnTo>
                  <a:pt x="23853" y="135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853" y="2025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203" h="21600">
                <a:moveTo>
                  <a:pt x="5558" y="10800"/>
                </a:moveTo>
                <a:lnTo>
                  <a:pt x="19645" y="3756"/>
                </a:lnTo>
                <a:lnTo>
                  <a:pt x="19645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历法成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4572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2286000"/>
                <a:gridCol w="541008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0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朝代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成       就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夏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商朝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Comic Sans MS"/>
                          <a:ea typeface="黑体"/>
                        </a:rPr>
                        <a:t>战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04920" y="838080"/>
            <a:ext cx="457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春秋战国之际的名医。他总结出来的四种诊断疾病的方法，一直被中医沿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816360" cy="48387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703560" y="57117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扁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63920" y="5029200"/>
            <a:ext cx="88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望、闻、问、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0" y="620640"/>
            <a:ext cx="700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、屈原和“钟鼓之乐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523880"/>
            <a:ext cx="22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、屈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435640" y="1773360"/>
            <a:ext cx="3097080" cy="36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汉鼎繁古印"/>
              </a:rPr>
              <a:t>端午节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汉鼎繁古印"/>
              <a:ea typeface="汉鼎繁古印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4681800" cy="353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5003640" y="2565360"/>
            <a:ext cx="4140360" cy="3529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blinds dir="horz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5257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5" name=""/>
          <p:cNvSpPr txBox="1"/>
          <p:nvPr/>
        </p:nvSpPr>
        <p:spPr>
          <a:xfrm>
            <a:off x="533520" y="5257800"/>
            <a:ext cx="2473200" cy="11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汉鼎简行书"/>
              </a:rPr>
              <a:t>屈原</a:t>
            </a:r>
            <a:endParaRPr b="1" lang="en-US" sz="4800" spc="-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汉鼎简行书"/>
              <a:ea typeface="汉鼎简行书"/>
            </a:endParaRPr>
          </a:p>
        </p:txBody>
      </p:sp>
      <p:sp>
        <p:nvSpPr>
          <p:cNvPr id="316" name=""/>
          <p:cNvSpPr/>
          <p:nvPr/>
        </p:nvSpPr>
        <p:spPr>
          <a:xfrm>
            <a:off x="4267080" y="2895480"/>
            <a:ext cx="4114800" cy="7034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吸收民歌精华，采用楚国方言，创造出一种新体诗歌。代表作：《离骚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3808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屈原：生活在战国末期的楚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954240" cy="53280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1280" y="1989000"/>
            <a:ext cx="403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长太息以掩涕兮，哀民生之多艰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《离骚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03640" y="404640"/>
            <a:ext cx="3384720" cy="2951280"/>
          </a:xfrm>
          <a:prstGeom prst="cloudCallout">
            <a:avLst>
              <a:gd name="adj1" fmla="val -43902"/>
              <a:gd name="adj2" fmla="val 71949"/>
            </a:avLst>
          </a:prstGeom>
          <a:solidFill>
            <a:srgbClr val="99cc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19640" y="981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这表达了屈原什么思想感情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51280" y="414972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表达了诗人对祖国和人民的热爱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7640" y="2057400"/>
            <a:ext cx="912636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24" name=""/>
          <p:cNvSpPr txBox="1"/>
          <p:nvPr/>
        </p:nvSpPr>
        <p:spPr>
          <a:xfrm>
            <a:off x="762120" y="304920"/>
            <a:ext cx="51051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汉鼎简行书"/>
              </a:rPr>
              <a:t>钟鼓之乐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汉鼎简行书"/>
              <a:ea typeface="汉鼎简行书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7772400" y="762120"/>
            <a:ext cx="1076400" cy="10760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7620120" y="1676520"/>
            <a:ext cx="838080" cy="380880"/>
          </a:xfrm>
          <a:custGeom>
            <a:avLst/>
            <a:gdLst>
              <a:gd name="textAreaLeft" fmla="*/ 23760 w 838080"/>
              <a:gd name="textAreaRight" fmla="*/ 814320 w 8380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54" y="1350"/>
                </a:lnTo>
                <a:lnTo>
                  <a:pt x="1350" y="135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54" y="20250"/>
                </a:lnTo>
                <a:lnTo>
                  <a:pt x="46154" y="135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6154" y="2025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7504" h="21600">
                <a:moveTo>
                  <a:pt x="16708" y="7283"/>
                </a:moveTo>
                <a:lnTo>
                  <a:pt x="17627" y="7283"/>
                </a:lnTo>
                <a:lnTo>
                  <a:pt x="18012" y="7650"/>
                </a:lnTo>
                <a:lnTo>
                  <a:pt x="27269" y="7650"/>
                </a:lnTo>
                <a:lnTo>
                  <a:pt x="27829" y="8210"/>
                </a:lnTo>
                <a:lnTo>
                  <a:pt x="27829" y="8761"/>
                </a:lnTo>
                <a:lnTo>
                  <a:pt x="29684" y="8761"/>
                </a:lnTo>
                <a:lnTo>
                  <a:pt x="30052" y="8210"/>
                </a:lnTo>
                <a:lnTo>
                  <a:pt x="30796" y="8210"/>
                </a:lnTo>
                <a:lnTo>
                  <a:pt x="30796" y="13390"/>
                </a:lnTo>
                <a:lnTo>
                  <a:pt x="30052" y="13390"/>
                </a:lnTo>
                <a:lnTo>
                  <a:pt x="29684" y="12839"/>
                </a:lnTo>
                <a:lnTo>
                  <a:pt x="27829" y="12839"/>
                </a:lnTo>
                <a:lnTo>
                  <a:pt x="27829" y="14125"/>
                </a:lnTo>
                <a:lnTo>
                  <a:pt x="18196" y="14125"/>
                </a:lnTo>
                <a:lnTo>
                  <a:pt x="18196" y="9873"/>
                </a:lnTo>
                <a:lnTo>
                  <a:pt x="18012" y="9873"/>
                </a:lnTo>
                <a:lnTo>
                  <a:pt x="17627" y="10240"/>
                </a:lnTo>
                <a:lnTo>
                  <a:pt x="16708" y="1024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848720" cy="2171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049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猜一猜，以下甲骨文字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2590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人           牛             水            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1676520" cy="1905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800600" y="3809880"/>
            <a:ext cx="1905120" cy="1447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828800" y="4343400"/>
            <a:ext cx="838080" cy="380880"/>
          </a:xfrm>
          <a:prstGeom prst="leftRightArrow">
            <a:avLst>
              <a:gd name="adj1" fmla="val 50000"/>
              <a:gd name="adj2" fmla="val 440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2666880" y="3581280"/>
            <a:ext cx="1876680" cy="19051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477120" y="4419720"/>
            <a:ext cx="761760" cy="380880"/>
          </a:xfrm>
          <a:prstGeom prst="leftRightArrow">
            <a:avLst>
              <a:gd name="adj1" fmla="val 50000"/>
              <a:gd name="adj2" fmla="val 4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218360" y="3657600"/>
            <a:ext cx="1925640" cy="2133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447920" y="5257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4952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48320" y="1905120"/>
            <a:ext cx="838080" cy="380880"/>
          </a:xfrm>
          <a:prstGeom prst="leftRightArrow">
            <a:avLst>
              <a:gd name="adj1" fmla="val 50000"/>
              <a:gd name="adj2" fmla="val 440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4267080"/>
            <a:ext cx="678168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甲骨文字是一种比较成熟的字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52280" y="30481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895480" y="914400"/>
            <a:ext cx="1600200" cy="2209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105520" y="3154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2362320" cy="22096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248520" y="3200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38080" y="7621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甲骨文记录的大都是商王的活动以及商朝的政治、经济情况。</a:t>
            </a:r>
            <a:r>
              <a:rPr b="1" lang="en-US" sz="4000" spc="-1" strike="noStrike">
                <a:solidFill>
                  <a:srgbClr val="3399ff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057400"/>
            <a:ext cx="609840" cy="2133720"/>
          </a:xfrm>
          <a:prstGeom prst="downArrow">
            <a:avLst>
              <a:gd name="adj1" fmla="val 50000"/>
              <a:gd name="adj2" fmla="val 8747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4343400"/>
            <a:ext cx="7772400" cy="825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我国有文字可考的历史是从商朝开始</a:t>
            </a:r>
            <a:r>
              <a:rPr b="0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84360" y="482760"/>
            <a:ext cx="4500360" cy="107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汉鼎繁古印"/>
              </a:rPr>
              <a:t>金文（铭文）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汉鼎繁古印"/>
              <a:ea typeface="汉鼎繁古印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3520" y="1828800"/>
            <a:ext cx="3970080" cy="4797360"/>
            <a:chOff x="533520" y="1828800"/>
            <a:chExt cx="3970080" cy="4797360"/>
          </a:xfrm>
        </p:grpSpPr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533520" y="1828800"/>
              <a:ext cx="3970080" cy="47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709200" y="2074680"/>
              <a:ext cx="3567960" cy="436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 rot="10800000">
            <a:off x="4643280" y="2060640"/>
            <a:ext cx="4043520" cy="2968560"/>
          </a:xfrm>
          <a:prstGeom prst="wedgeRoundRectCallout">
            <a:avLst>
              <a:gd name="adj1" fmla="val 9712"/>
              <a:gd name="adj2" fmla="val 9300"/>
              <a:gd name="adj3" fmla="val 16667"/>
            </a:avLst>
          </a:prstGeom>
          <a:noFill/>
          <a:ln w="1260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商、周时铸刻在青铜器上的文字，叫做金文，又叫铭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562720" y="8380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商周时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276720" cy="54640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429000" cy="5464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85800" y="304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ff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大 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3049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西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777080" cy="341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28600" y="45720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字体的演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59436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马”字演变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105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商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商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391520" y="4952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西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724640" cy="41608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86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战国时期在      或       上书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81640" y="1600200"/>
            <a:ext cx="3314520" cy="4191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828800" y="6019920"/>
            <a:ext cx="121932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竹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6019920"/>
            <a:ext cx="1143000" cy="64260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帛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1880" y="380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竹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97000" y="3808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丝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04:20:45Z</dcterms:created>
  <dc:creator/>
  <dc:description/>
  <dc:language>en-US</dc:language>
  <cp:lastModifiedBy>雨林木风</cp:lastModifiedBy>
  <dcterms:modified xsi:type="dcterms:W3CDTF">2012-09-25T04:28:29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  <property fmtid="{D5CDD505-2E9C-101B-9397-08002B2CF9AE}" pid="3" name="Version">
    <vt:r8>1</vt:r8>
  </property>
</Properties>
</file>